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7.wmf" ContentType="image/x-wmf"/>
  <Override PartName="/ppt/media/image26.jpeg" ContentType="image/jpeg"/>
  <Override PartName="/ppt/media/image24.wmf" ContentType="image/x-wmf"/>
  <Override PartName="/ppt/media/image21.png" ContentType="image/png"/>
  <Override PartName="/ppt/media/image23.png" ContentType="image/png"/>
  <Override PartName="/ppt/media/image6.wmf" ContentType="image/x-wmf"/>
  <Override PartName="/ppt/media/image19.jpeg" ContentType="image/jpeg"/>
  <Override PartName="/ppt/media/image29.wmf" ContentType="image/x-wmf"/>
  <Override PartName="/ppt/media/image11.wmf" ContentType="image/x-wmf"/>
  <Override PartName="/ppt/media/image18.png" ContentType="image/png"/>
  <Override PartName="/ppt/media/image31.wmf" ContentType="image/x-wmf"/>
  <Override PartName="/ppt/media/image7.jpeg" ContentType="image/jpeg"/>
  <Override PartName="/ppt/media/image25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2.wmf" ContentType="image/x-wmf"/>
  <Override PartName="/ppt/media/image30.wmf" ContentType="image/x-wmf"/>
  <Override PartName="/ppt/media/image33.png" ContentType="image/png"/>
  <Override PartName="/ppt/media/image34.png" ContentType="image/png"/>
  <Override PartName="/ppt/media/image15.png" ContentType="image/png"/>
  <Override PartName="/ppt/media/image36.jpeg" ContentType="image/jpeg"/>
  <Override PartName="/ppt/media/image2.jpeg" ContentType="image/jpeg"/>
  <Override PartName="/ppt/media/image35.png" ContentType="image/png"/>
  <Override PartName="/ppt/media/image5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3.png" ContentType="image/png"/>
  <Override PartName="/ppt/media/image2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6C6A-9DCF-45BB-9B96-37A06327D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F4B6-54F1-4438-A516-668F1E55E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A066-0F93-4DAC-92B2-2E0335525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32B9-8A3C-4856-B418-973C1FA9C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93BA-A559-4A59-BEEE-3F221C5FA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D4C6-1F3B-41FC-9022-FC8CF739C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0BED-1021-4039-9D19-04CE9BB07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5357-9CC9-40E7-A9AA-70F790603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3436-2949-4C35-A010-7C0D2A07F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AFD3-3BCC-4E7C-B951-DFBB53550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C15B-C6C1-4E84-80A3-D5A59A8A8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CA85-6CE2-49DE-A5FB-AF5F8AD63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D881-22E0-4111-9483-666C2F232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8C6C-7174-424F-984E-C0C683073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482B-8472-4880-AD38-011651352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311B-42F2-4C3E-A469-5D0DA7315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E98A-2B74-41C8-9483-4AA11E857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EEA2-61D8-4814-8CD7-FECB019D5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ADEF-5E1D-43F7-8E95-6FBBB8767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62DE-D0C7-48E7-8E56-4FD7EACEC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8CCFC-0567-4577-8240-1B026834FD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5CC1D-98DA-41F9-A2CF-B460E8711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23E06-1E8E-41C8-87F2-5E7635554A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FBC6F-0F05-4355-8C8B-52EDDA3877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CD6C-1500-4B3A-B95E-06CDF6F586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33EB-0AAC-4BD9-80BD-2A8F6D995D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449C-C44F-4C92-808F-8A5585B942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7CB0-74B3-4842-A420-C7CFAD84F7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B7ED-686D-429F-B609-CF5874F5D1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FB45-3188-4240-89E3-0078097FCE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06EE-5F42-422D-A9A3-A2DB0945C7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9D04F-FB75-4348-9BCB-E2BFEBB686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0A91-2C28-4C4D-BA73-9349818B41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89C7-6040-4EA2-8326-2EBAF90562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0403-3503-4385-8997-0FE7492DD1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452F-B8D4-4E00-95F1-633F8B873D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EEE5-DD59-40D6-8233-E3E82AD2EA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79C1D-2343-4547-B4A5-CA9A2FAD94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7C9DC-62FB-42E7-930E-CB11486BDA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9B973-E538-487B-A7F4-DA0D1C3BB6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FF78F-34A8-4982-B37C-EC968F20AC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CBC65-959C-433E-AA4A-740D7D3F14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D231E-74A4-407B-A0D6-37F55D59CD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3801A-317E-412E-9EF1-4E320F6AEC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216A-F4CC-4268-B014-D2C005937A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081D-3BDC-458B-8815-9A504F52DD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3AF0-ED0A-47FA-9930-69C40C4F0E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362320" y="1600200"/>
            <a:ext cx="731520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Approvisionnement et gestion des stoc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9337-FDD8-423A-8597-7FA50F2132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 mettre en place un 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1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3124080" y="2895480"/>
            <a:ext cx="31244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4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5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6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7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8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ssigner respons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6629400" y="2133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nalyse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des be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les besoins minim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3429000" y="5257800"/>
            <a:ext cx="2514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évelopper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ormulaires et regi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685800" y="449568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systèm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our recevoir et sto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685800" y="2057400"/>
            <a:ext cx="2666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Maintenir </a:t>
            </a: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n système de gestion de stock dans toutes les zones de sto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5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6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7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8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9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0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2404-CBB8-4AF8-831F-51A3D1EBE5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r les beso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une analyse des besoins en consommables et réactifs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stant toutes les analys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les consommables nécessaires pour chaque analy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ant l’information disponible pour estime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C112-E260-48D6-8C90-370AA10C81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nalyse des besoins : Information Requ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80880" y="1295280"/>
            <a:ext cx="8534520" cy="5045040"/>
            <a:chOff x="380880" y="1295280"/>
            <a:chExt cx="8534520" cy="5045040"/>
          </a:xfrm>
        </p:grpSpPr>
        <p:sp>
          <p:nvSpPr>
            <p:cNvPr id="222" name="AutoShape 4"/>
            <p:cNvSpPr/>
            <p:nvPr/>
          </p:nvSpPr>
          <p:spPr>
            <a:xfrm>
              <a:off x="380880" y="1295280"/>
              <a:ext cx="8534520" cy="504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98691"/>
            <p:cNvSpPr/>
            <p:nvPr/>
          </p:nvSpPr>
          <p:spPr>
            <a:xfrm flipH="1" flipV="1">
              <a:off x="2616120" y="3436560"/>
              <a:ext cx="1022400" cy="1904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98685"/>
            <p:cNvSpPr/>
            <p:nvPr/>
          </p:nvSpPr>
          <p:spPr>
            <a:xfrm>
              <a:off x="542880" y="2631960"/>
              <a:ext cx="213192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Espac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stockage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98690"/>
            <p:cNvSpPr/>
            <p:nvPr/>
          </p:nvSpPr>
          <p:spPr>
            <a:xfrm flipH="1">
              <a:off x="3393720" y="4313160"/>
              <a:ext cx="630360" cy="5050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98672"/>
            <p:cNvSpPr/>
            <p:nvPr/>
          </p:nvSpPr>
          <p:spPr>
            <a:xfrm>
              <a:off x="1704960" y="4699080"/>
              <a:ext cx="2131920" cy="1231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s pou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mman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98689"/>
            <p:cNvSpPr/>
            <p:nvPr/>
          </p:nvSpPr>
          <p:spPr>
            <a:xfrm>
              <a:off x="5272200" y="4313160"/>
              <a:ext cx="635040" cy="503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98670"/>
            <p:cNvSpPr/>
            <p:nvPr/>
          </p:nvSpPr>
          <p:spPr>
            <a:xfrm>
              <a:off x="5465880" y="4699080"/>
              <a:ext cx="2131920" cy="12319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Niveau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priorité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98688"/>
            <p:cNvSpPr/>
            <p:nvPr/>
          </p:nvSpPr>
          <p:spPr>
            <a:xfrm flipV="1">
              <a:off x="5657760" y="3435120"/>
              <a:ext cx="1022400" cy="191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98667"/>
            <p:cNvSpPr/>
            <p:nvPr/>
          </p:nvSpPr>
          <p:spPr>
            <a:xfrm>
              <a:off x="6248520" y="2631960"/>
              <a:ext cx="25128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Consommation/mois       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98687"/>
            <p:cNvSpPr/>
            <p:nvPr/>
          </p:nvSpPr>
          <p:spPr>
            <a:xfrm flipV="1">
              <a:off x="4648320" y="2583000"/>
              <a:ext cx="0" cy="620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98665"/>
            <p:cNvSpPr/>
            <p:nvPr/>
          </p:nvSpPr>
          <p:spPr>
            <a:xfrm>
              <a:off x="3276720" y="1352520"/>
              <a:ext cx="243972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Unité de 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conditionnement      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98662"/>
            <p:cNvSpPr/>
            <p:nvPr/>
          </p:nvSpPr>
          <p:spPr>
            <a:xfrm>
              <a:off x="3584520" y="3203640"/>
              <a:ext cx="228132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br>
                <a:rPr sz="3000"/>
              </a:b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'un article </a:t>
              </a:r>
              <a:br>
                <a:rPr sz="3000"/>
              </a:b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6C84-3F3E-4DBB-9821-9F091664A5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533520"/>
            <a:ext cx="80773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a quantification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09480" y="1905120"/>
            <a:ext cx="7848720" cy="25311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La quantification</a:t>
            </a:r>
            <a:r>
              <a:rPr b="0" lang="fr-FR" sz="3200" spc="-1" strike="noStrike">
                <a:solidFill>
                  <a:srgbClr val="ffcc00"/>
                </a:solidFill>
                <a:latin typeface="Verdana"/>
              </a:rPr>
              <a:t> est un processus pour calculer la quantité requise d’un article pour une période donné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9132-3E03-4AFE-8EA5-05AA217A7F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fr-FR" sz="3600" spc="-1" strike="noStrike">
                <a:solidFill>
                  <a:srgbClr val="e40202"/>
                </a:solidFill>
                <a:latin typeface="Verdana"/>
              </a:rPr>
              <a:t>quand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 partie de la planification annu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ise en œuvre d’un nouveau programme de san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préparation à une épidémie potentielle ou identif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8366-4D72-4551-8B78-D703737236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Commen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consom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morbid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07A9-39A4-49ED-A408-4662EA5A52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antification: basée su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asée sur la consommation ré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prendre en comp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réellement uti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gaspillés périmés ou abîm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en rupture de stock plus de 15 jours sur l’an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Untitled-43"/>
          <p:cNvPicPr/>
          <p:nvPr/>
        </p:nvPicPr>
        <p:blipFill>
          <a:blip r:embed="rId1"/>
          <a:stretch/>
        </p:blipFill>
        <p:spPr>
          <a:xfrm>
            <a:off x="5638680" y="2695680"/>
            <a:ext cx="35053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5EE3-3B34-4DC8-80A0-B52C4035BF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Untitled-42"/>
          <p:cNvPicPr/>
          <p:nvPr/>
        </p:nvPicPr>
        <p:blipFill>
          <a:blip r:embed="rId1"/>
          <a:stretch/>
        </p:blipFill>
        <p:spPr>
          <a:xfrm>
            <a:off x="5105520" y="2395440"/>
            <a:ext cx="4038480" cy="25574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: basée sur la morbid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sée sur le nombre réel d’é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prendre en compt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aill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idence mala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actitude donnée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morbid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gnes de conduit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ndardisées de tra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DAEF-B989-44FE-A068-EFC2BE7FD5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es registr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 de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itères de refus ou d’acceptation des produ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’utilisation/sortis du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peut être utile de garder les registres sur le lieu de stock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storage_shelves"/>
          <p:cNvPicPr/>
          <p:nvPr/>
        </p:nvPicPr>
        <p:blipFill>
          <a:blip r:embed="rId1"/>
          <a:stretch/>
        </p:blipFill>
        <p:spPr>
          <a:xfrm>
            <a:off x="6647040" y="533520"/>
            <a:ext cx="2116080" cy="21333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gestion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 stock 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j0234700"/>
          <p:cNvPicPr/>
          <p:nvPr/>
        </p:nvPicPr>
        <p:blipFill>
          <a:blip r:embed="rId2"/>
          <a:stretch/>
        </p:blipFill>
        <p:spPr>
          <a:xfrm rot="2522400">
            <a:off x="7559280" y="3511440"/>
            <a:ext cx="16002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6A98-27A4-45FE-92D7-46AB315F6B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 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Quanti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alance du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tre informa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étag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st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;og_book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E1F3-4317-47B1-AA42-6B738CD475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es étapes nécessaires pour mettre en œuvre un programme de contrôle et d’inventaire des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mmer les facteurs à considérer avant d’acheter des consomm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velopper un plan de contrôle du système de gestion des stocks et des invent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scuter l’importance de la documentation concernant l’approvisionnement et la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1E48-0617-4994-96B6-63887D4325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specter les commandes au moment de la livr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s cont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’intég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réceptio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ur chaque prod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anger les nouveaux articles derrière ceux en st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ou mettre à jour des regi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FIL15003"/>
          <p:cNvPicPr/>
          <p:nvPr/>
        </p:nvPicPr>
        <p:blipFill>
          <a:blip r:embed="rId1"/>
          <a:stretch/>
        </p:blipFill>
        <p:spPr>
          <a:xfrm>
            <a:off x="6781680" y="4495680"/>
            <a:ext cx="2076480" cy="1860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pe01495_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534B-F40D-4689-9CD5-3F33EE21FE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p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rganisé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erm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ien ventil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 de soleil di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gères sol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rticles à portée de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écautions de sécurité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8"/>
          <p:cNvSpPr/>
          <p:nvPr/>
        </p:nvSpPr>
        <p:spPr>
          <a:xfrm>
            <a:off x="6019920" y="3962520"/>
            <a:ext cx="213336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3" descr="j0434713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9F40-4D5A-433A-91E2-54E1655ADF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Rayonn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7"/>
          <p:cNvSpPr/>
          <p:nvPr/>
        </p:nvSpPr>
        <p:spPr>
          <a:xfrm>
            <a:off x="685800" y="533412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ivre les précautions de sécur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4572000" y="4343400"/>
            <a:ext cx="213372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A11E-A40B-4AE4-98C6-47417CA657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la “perte” d’un produ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onomise du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ématise l’espac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uméroter chambres froide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frigérateur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congélateur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étiqueter les ray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refrigerator_storage_cdc"/>
          <p:cNvPicPr/>
          <p:nvPr/>
        </p:nvPicPr>
        <p:blipFill>
          <a:blip r:embed="rId1"/>
          <a:srcRect l="0" t="0" r="0" b="25408"/>
          <a:stretch/>
        </p:blipFill>
        <p:spPr>
          <a:xfrm>
            <a:off x="4495680" y="4800600"/>
            <a:ext cx="3246480" cy="1701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ganisation des rayonn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stock_room"/>
          <p:cNvPicPr/>
          <p:nvPr/>
        </p:nvPicPr>
        <p:blipFill>
          <a:blip r:embed="rId2"/>
          <a:stretch/>
        </p:blipFill>
        <p:spPr>
          <a:xfrm>
            <a:off x="5791320" y="1716120"/>
            <a:ext cx="32004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9DE0-8C3F-482B-8CD0-51D5909E72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tiliser des étiquettes avec des dates clairement visibl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’ouve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e pére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6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0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2827-C094-46DD-9757-A61EACC1BD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 continu de la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6" descr="Untitled-41"/>
          <p:cNvPicPr/>
          <p:nvPr/>
        </p:nvPicPr>
        <p:blipFill>
          <a:blip r:embed="rId1"/>
          <a:stretch/>
        </p:blipFill>
        <p:spPr>
          <a:xfrm>
            <a:off x="457200" y="1050840"/>
            <a:ext cx="82296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A035-9796-4319-BE21-8FCC38CA16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Gestion informatis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at exact du stock, classification des prod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dates de pére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tatistiques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planifier les ordres d’a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a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âches de gestion de stock facili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convéni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rdinateur sur place nécess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quiert un personnel form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713040"/>
            <a:ext cx="26672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63F6-7AE0-4777-A67E-9471970E31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laboratoire bien géré possèdera un système d’approvisionnement et de gestion de st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système requière de planifier et contrôler: analyser les besoins, développer des formulaires et procédures, maintenir un inventaire. Le laboratoire devra maintenir un système de gestion de stock pour tous les réactifs et consommables utilisés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7834-E16C-4840-B9C5-45478EB502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gestion de stock 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gmente l’efficience et l’efficacité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ondra aux besoins des patients et du personnel de s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 la disponibilité des produits quand nécess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63F7-6753-4340-9018-534F27322F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58128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2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C884-CC81-41D3-9170-615C8EF250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n demande à votre laboratoire de se préparer en vue d’une épidémie de grippe potenti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sont les différents facteurs à étudier en planifiant ce processu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problèmes seriez vous susceptibles de rencontrer lors de la planification et de la mise en oeuv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274F-6E0F-4D63-9C37-120B751966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C853-65B2-4A62-996E-6E153F8212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Bénéfices d’un programme</a:t>
            </a:r>
            <a:br>
              <a:rPr sz="3200"/>
            </a:b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609480" y="3352680"/>
            <a:ext cx="243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ournitures et réactifs toujours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943600" y="3200400"/>
            <a:ext cx="28195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oins de gaspill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Budget respec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j0424198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5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maint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153" name="Line 19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5418-123C-4A4A-88F7-CBA7E2F15A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quilibre entre disponibilité du stock et dates de péremption des produits.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urée de vie des réactif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var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actifs RIA : 3 à 8 sema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Kits API : 4 à 1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tisérums : 1 à 4 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isques antibiotiques : 2 à 3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prêt à l’emploi : 1 à 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déshydraté : 3 à 5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FIL738"/>
          <p:cNvPicPr/>
          <p:nvPr/>
        </p:nvPicPr>
        <p:blipFill>
          <a:blip r:embed="rId1"/>
          <a:stretch/>
        </p:blipFill>
        <p:spPr>
          <a:xfrm>
            <a:off x="5410080" y="2514600"/>
            <a:ext cx="3429000" cy="28875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éfis de la gestion de st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791320" y="3657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En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7467480" y="3352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at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ére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EDD6-B6EB-4044-9A9C-A2288939E6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principa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6" descr="Untitled-46"/>
          <p:cNvPicPr/>
          <p:nvPr/>
        </p:nvPicPr>
        <p:blipFill>
          <a:blip r:embed="rId1"/>
          <a:stretch/>
        </p:blipFill>
        <p:spPr>
          <a:xfrm>
            <a:off x="228600" y="1438200"/>
            <a:ext cx="86868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073C-4B28-488A-B050-8158DCE499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pour qualifier et sélectionner des vend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critères de sélection pour les consommables ou réactifs à ache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des informations auprès d’autres laborat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avant l’approvisionnement et après la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10D2-DEC4-4629-BBD9-7D874CA27E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sidé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terminer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dalité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de paieme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457200" y="1143000"/>
            <a:ext cx="5409720" cy="2971080"/>
            <a:chOff x="457200" y="1143000"/>
            <a:chExt cx="5409720" cy="2971080"/>
          </a:xfrm>
        </p:grpSpPr>
        <p:sp>
          <p:nvSpPr>
            <p:cNvPr id="177" name="AutoShape 9"/>
            <p:cNvSpPr/>
            <p:nvPr/>
          </p:nvSpPr>
          <p:spPr>
            <a:xfrm>
              <a:off x="457200" y="1143000"/>
              <a:ext cx="5409720" cy="29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Négocier les pri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R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contra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7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3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1"/>
          <p:cNvSpPr/>
          <p:nvPr/>
        </p:nvSpPr>
        <p:spPr>
          <a:xfrm>
            <a:off x="609480" y="1295280"/>
            <a:ext cx="5105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Comprendre les exigences du gouver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2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3" descr="j0412568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4" descr="j0311860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5" descr="j0185303"/>
          <p:cNvPicPr/>
          <p:nvPr/>
        </p:nvPicPr>
        <p:blipFill>
          <a:blip r:embed="rId3"/>
          <a:stretch/>
        </p:blipFill>
        <p:spPr>
          <a:xfrm>
            <a:off x="6705720" y="5029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6"/>
          <p:cNvSpPr/>
          <p:nvPr/>
        </p:nvSpPr>
        <p:spPr>
          <a:xfrm>
            <a:off x="5638680" y="37339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ssurer disponibilité et livra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2:07:52Z</dcterms:created>
  <dc:creator>sam5</dc:creator>
  <dc:description/>
  <dc:language>en-US</dc:language>
  <cp:lastModifiedBy>dolmazonv</cp:lastModifiedBy>
  <dcterms:modified xsi:type="dcterms:W3CDTF">2010-04-07T15:05:22Z</dcterms:modified>
  <cp:revision>130</cp:revision>
  <dc:subject/>
  <dc:title>Slide 1</dc:title>
</cp:coreProperties>
</file>